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-46080" bIns="-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. 10 -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. Electron Cloud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p.272-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where there is 90% probability of finding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pinpoint the location of an elect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of dots represents degree of prob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Orb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als have different sha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Energy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can only exist at certain energy lev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energy levels are close to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nergy level (n) can hold 2n2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. Bohr Model Dia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implified energy levels using Bohr’s idea of circular or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1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2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evel 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2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th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tomic #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ss: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p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e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# of n: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Bohr Model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number between 1 &amp; 1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your element by the atomic number you pic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Bohr Model diagram for your element on your marker boa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ff the mass listed on the table and subtract the atomic # to find the # of neu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breviate the # of ‘p’ and ‘n’ in the nucle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artner check your dra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a new el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CAC-CA2D-411D-B4D8-0C3EF371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0EC6-BDD6-4628-8EB7-18AB3670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6478-7B6B-4E2C-A1B5-B1F7FD3C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C0C-91E8-4FC6-BF76-835D6F24E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1E13-8D0C-4902-B6E6-1FD24A26D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B0AD-5CED-4F3D-B5A3-0645DF68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3B3F-3DAA-4FEF-85A5-CDF94431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1E737-60E0-4B0C-B511-7A0FBFF3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91EE-0C61-408B-8CB6-18E9C96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E56D-3CF3-4E53-9DB5-62CED7633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FDB4-1E8A-4C86-8C43-712CBEED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9AA-A152-4425-8D76-093A87A9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D772-54C9-46C3-8DDC-7872FED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6509-A24D-4CF4-9D47-0DB5F78F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E1AB-26C0-40B5-8688-37B15706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70EA-36C7-475C-AC15-38A4A8BF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9FE9-F0B7-4F2C-A455-BA2786FC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7F93-5FAA-4E02-80B0-42A7F6E3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4793-5B89-493F-B316-7AFBB774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CBD9-AC0B-4E43-A771-AAA16D40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5F5F-13C8-4B30-9A9E-C663867B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BC7-777D-4618-B43F-022D84F3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B3D-62E3-49A3-9706-398BBA74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86A0-C1D8-4797-92AC-35A06AA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394C-C1BD-431B-97FB-9CF36FE69A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68360" y="1663560"/>
            <a:ext cx="8153280" cy="1600200"/>
            <a:chOff x="468360" y="16635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18240" y="16635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43720" y="18288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600880" y="20494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68360" y="23796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1" marL="698400" indent="-268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2" marL="107424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3" marL="1504080" indent="-214560">
              <a:spcBef>
                <a:spcPts val="85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1933920" indent="-214560">
              <a:spcBef>
                <a:spcPts val="85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5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6" marL="1933920" indent="-2145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F0A0-48E6-4A8B-BC0B-A4B24326011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560" y="367920"/>
            <a:ext cx="7994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Arial"/>
              </a:rPr>
              <a:t>Ch. 10 - Atomic Structure </a:t>
            </a:r>
            <a:endParaRPr b="1" i="1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01760" y="2916360"/>
            <a:ext cx="8340480" cy="13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II.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3800" spc="-1" strike="noStrike">
                <a:solidFill>
                  <a:srgbClr val="ffffcc"/>
                </a:solidFill>
                <a:latin typeface="Arial"/>
              </a:rPr>
              <a:t>Electron Cloud Model</a:t>
            </a:r>
            <a:r>
              <a:rPr b="0" lang="en-US" sz="3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(p.272-274)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nergy Level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lvl="4" marL="2062080" indent="-453960">
              <a:lnSpc>
                <a:spcPct val="100000"/>
              </a:lnSpc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Bohr Model Diagrams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39840" y="2057400"/>
            <a:ext cx="8550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Region where there is 90% probability of finding an electron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0" name="Electron Cloud.avi" descr=""/>
          <p:cNvPicPr/>
          <p:nvPr/>
        </p:nvPicPr>
        <p:blipFill>
          <a:blip r:embed="rId1"/>
          <a:stretch/>
        </p:blipFill>
        <p:spPr>
          <a:xfrm>
            <a:off x="4486320" y="3340080"/>
            <a:ext cx="4494240" cy="283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Rectangle 5"/>
          <p:cNvSpPr/>
          <p:nvPr/>
        </p:nvSpPr>
        <p:spPr>
          <a:xfrm>
            <a:off x="339840" y="3193920"/>
            <a:ext cx="41209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Can’t pinpoint the location of an electron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Density of dots represents degree of probability.</a:t>
            </a:r>
            <a:endParaRPr b="0" lang="en-US" sz="3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A. Orbital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Orbitals have different shape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522360" y="4091040"/>
            <a:ext cx="1400040" cy="14000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2219400" y="4145040"/>
            <a:ext cx="3701880" cy="129060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6261120" y="3525840"/>
            <a:ext cx="2268360" cy="2530440"/>
          </a:xfrm>
          <a:prstGeom prst="rect">
            <a:avLst/>
          </a:prstGeom>
          <a:ln w="12600">
            <a:solidFill>
              <a:srgbClr val="ffffcc"/>
            </a:solidFill>
            <a:miter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B. Energy Level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2080" y="2614680"/>
            <a:ext cx="5807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lectrons can only exist at certain energy level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Low energy levels are close to the nucleu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1701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Each energy level (n) can hold 2n</a:t>
            </a:r>
            <a:r>
              <a:rPr b="0" lang="en-US" sz="3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 electron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1" name="Electron Excitation.avi" descr=""/>
          <p:cNvPicPr/>
          <p:nvPr/>
        </p:nvPicPr>
        <p:blipFill>
          <a:blip r:embed="rId1"/>
          <a:stretch/>
        </p:blipFill>
        <p:spPr>
          <a:xfrm>
            <a:off x="6581880" y="2800440"/>
            <a:ext cx="2363760" cy="3743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Diagrams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cc"/>
                </a:solidFill>
                <a:latin typeface="Arial"/>
              </a:rPr>
              <a:t>Simplified energy levels using Bohr’s idea of circular orbits.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3403440" y="3960720"/>
            <a:ext cx="2140200" cy="21402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Oval 12"/>
          <p:cNvSpPr/>
          <p:nvPr/>
        </p:nvSpPr>
        <p:spPr>
          <a:xfrm>
            <a:off x="5110200" y="5489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Oval 13"/>
          <p:cNvSpPr/>
          <p:nvPr/>
        </p:nvSpPr>
        <p:spPr>
          <a:xfrm>
            <a:off x="3406680" y="415764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6309360" y="4863960"/>
            <a:ext cx="2576520" cy="1922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ximum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336600" y="3384720"/>
            <a:ext cx="2153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Lith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tomic #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ss: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p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e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74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# of n: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3990960" y="4532400"/>
            <a:ext cx="963720" cy="998280"/>
            <a:chOff x="3990960" y="4532400"/>
            <a:chExt cx="963720" cy="998280"/>
          </a:xfrm>
        </p:grpSpPr>
        <p:sp>
          <p:nvSpPr>
            <p:cNvPr id="121" name="Oval 20"/>
            <p:cNvSpPr/>
            <p:nvPr/>
          </p:nvSpPr>
          <p:spPr>
            <a:xfrm>
              <a:off x="4043520" y="50068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2" name="Oval 21"/>
            <p:cNvSpPr/>
            <p:nvPr/>
          </p:nvSpPr>
          <p:spPr>
            <a:xfrm>
              <a:off x="4284720" y="453240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Oval 22"/>
            <p:cNvSpPr/>
            <p:nvPr/>
          </p:nvSpPr>
          <p:spPr>
            <a:xfrm>
              <a:off x="3990960" y="4680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Oval 23"/>
            <p:cNvSpPr/>
            <p:nvPr/>
          </p:nvSpPr>
          <p:spPr>
            <a:xfrm>
              <a:off x="4272120" y="514656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Oval 24"/>
            <p:cNvSpPr/>
            <p:nvPr/>
          </p:nvSpPr>
          <p:spPr>
            <a:xfrm>
              <a:off x="4281480" y="4815000"/>
              <a:ext cx="38448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Oval 25"/>
            <p:cNvSpPr/>
            <p:nvPr/>
          </p:nvSpPr>
          <p:spPr>
            <a:xfrm>
              <a:off x="4565880" y="4692600"/>
              <a:ext cx="384120" cy="384120"/>
            </a:xfrm>
            <a:prstGeom prst="ellipse">
              <a:avLst/>
            </a:prstGeom>
            <a:solidFill>
              <a:srgbClr val="0066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Oval 19"/>
            <p:cNvSpPr/>
            <p:nvPr/>
          </p:nvSpPr>
          <p:spPr>
            <a:xfrm>
              <a:off x="4570560" y="5021280"/>
              <a:ext cx="384120" cy="384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8" name="Oval 27"/>
          <p:cNvSpPr/>
          <p:nvPr/>
        </p:nvSpPr>
        <p:spPr>
          <a:xfrm>
            <a:off x="2986200" y="3543480"/>
            <a:ext cx="2975040" cy="2974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Oval 28"/>
          <p:cNvSpPr/>
          <p:nvPr/>
        </p:nvSpPr>
        <p:spPr>
          <a:xfrm>
            <a:off x="5392800" y="3787920"/>
            <a:ext cx="384120" cy="3841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0" name="Group 34"/>
          <p:cNvGrpSpPr/>
          <p:nvPr/>
        </p:nvGrpSpPr>
        <p:grpSpPr>
          <a:xfrm>
            <a:off x="5089320" y="3079800"/>
            <a:ext cx="3861000" cy="1838160"/>
            <a:chOff x="5089320" y="3079800"/>
            <a:chExt cx="3861000" cy="1838160"/>
          </a:xfrm>
        </p:grpSpPr>
        <p:sp>
          <p:nvSpPr>
            <p:cNvPr id="131" name="AutoShape 29"/>
            <p:cNvSpPr/>
            <p:nvPr/>
          </p:nvSpPr>
          <p:spPr>
            <a:xfrm>
              <a:off x="6262560" y="3079800"/>
              <a:ext cx="2687760" cy="1485720"/>
            </a:xfrm>
            <a:prstGeom prst="roundRect">
              <a:avLst>
                <a:gd name="adj" fmla="val 16667"/>
              </a:avLst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n replace with: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p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n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2" name="Line 30"/>
            <p:cNvSpPr/>
            <p:nvPr/>
          </p:nvSpPr>
          <p:spPr>
            <a:xfrm flipH="1">
              <a:off x="5089320" y="3979800"/>
              <a:ext cx="1487160" cy="938160"/>
            </a:xfrm>
            <a:prstGeom prst="line">
              <a:avLst/>
            </a:prstGeom>
            <a:ln w="5724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3" name="Oval 31"/>
            <p:cNvSpPr/>
            <p:nvPr/>
          </p:nvSpPr>
          <p:spPr>
            <a:xfrm>
              <a:off x="7161120" y="3600360"/>
              <a:ext cx="895320" cy="90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34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Arial"/>
              </a:rPr>
              <a:t>C. Bohr Model Activity</a:t>
            </a:r>
            <a:endParaRPr b="1" i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1760" y="2057400"/>
            <a:ext cx="8921880" cy="138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34000"/>
          </a:bodyPr>
          <a:p>
            <a:pPr marL="116640" indent="-116640">
              <a:spcBef>
                <a:spcPts val="700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hoose a number between 1 &amp; 18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ind your element by the atomic number you picke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raw a Bohr Model diagram for your element on your marker board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ound off the mass listed on the table and subtract the atomic # to find the # of neutr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252360" indent="-9684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bbreviate the # of ‘p’ and ‘n’ in the nucleu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ve a partner check your drawing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116640" indent="-116640">
              <a:spcBef>
                <a:spcPts val="1049"/>
              </a:spcBef>
              <a:buClr>
                <a:srgbClr val="ff9933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peat with a new element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9:51:21Z</dcterms:created>
  <dc:creator>Mrs. Johannesson</dc:creator>
  <dc:description/>
  <dc:language>en-US</dc:language>
  <cp:lastModifiedBy>LEGION</cp:lastModifiedBy>
  <dcterms:modified xsi:type="dcterms:W3CDTF">2017-01-26T09:18:35Z</dcterms:modified>
  <cp:revision>92</cp:revision>
  <dc:subject/>
  <dc:title>II. Electron Cloud Model</dc:title>
</cp:coreProperties>
</file>